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4E76-9865-4889-AA8C-DF186E068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6D83-C9D7-4DE3-B60D-2CF61DF4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B381-07E8-48BF-9A67-127CE611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4C15-C5E9-457A-9467-EDB340DB6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B5DA-E688-4D52-AB64-241A7C0A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0120-E87D-499A-A1C0-727B5730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C5CC-D613-46CF-9E46-DEE153CD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1ABA-4053-4926-B7AC-74E05C0F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8CDF-C562-4502-8AE1-E6E83E80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417B-8983-42D7-85A0-959ACDAB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0353-8954-4787-B901-15ECD75D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E640-34D9-403D-A6DE-6932EB48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C32B-E54A-4D57-A30E-CF4066762DCC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riteexpress.com/narrative-essay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ssayinfo.com/essays/narrative_essay.php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rrative Ess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.58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n Embarrassing Acciden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ok? Background information? Thesis statem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as the writer’s embarrassing incid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id the writer lear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lining your narrative essay based on your brainstorming ide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pic 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Write about an experience of learning something new. What problems did you encounter? How did you overcome them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pic 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Think about an event in your life that seemed bad but turned out to be good. What makes the event change from bad to good? What did you lear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 did the story happen?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 Verb Tense-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Past Continuous: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o set the scen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t is used for an action that continues for some time and is usually paired with an action in the simple past. It is often used with "as", "while", and "when".</a:t>
            </a:r>
            <a:r>
              <a:rPr b="0" lang="zh-TW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ertain stative verbs are NOT used with past continuous. e.g. </a:t>
            </a:r>
            <a:r>
              <a:rPr b="0" i="1" lang="en-US" sz="2500" spc="-1" strike="noStrike">
                <a:solidFill>
                  <a:srgbClr val="00b050"/>
                </a:solidFill>
                <a:latin typeface="Calibri"/>
              </a:rPr>
              <a:t>seemed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500" spc="-1" strike="noStrike">
                <a:solidFill>
                  <a:srgbClr val="00b050"/>
                </a:solidFill>
                <a:latin typeface="Calibri"/>
              </a:rPr>
              <a:t>appeared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500" spc="-1" strike="noStrike">
                <a:solidFill>
                  <a:srgbClr val="00b050"/>
                </a:solidFill>
                <a:latin typeface="Calibri"/>
              </a:rPr>
              <a:t>was/wer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500" spc="-1" strike="noStrike">
                <a:solidFill>
                  <a:srgbClr val="00b050"/>
                </a:solidFill>
                <a:latin typeface="Calibri"/>
              </a:rPr>
              <a:t>becam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imple Past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Past Perfect: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o describe something that happened before another thing in the past.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t is sometimes used for reported speech after verbs such as </a:t>
            </a:r>
            <a:r>
              <a:rPr b="0" i="1" lang="en-US" sz="2500" spc="-1" strike="noStrike">
                <a:solidFill>
                  <a:srgbClr val="00b050"/>
                </a:solidFill>
                <a:latin typeface="Calibri"/>
              </a:rPr>
              <a:t>sa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500" spc="-1" strike="noStrike">
                <a:solidFill>
                  <a:srgbClr val="00b050"/>
                </a:solidFill>
                <a:latin typeface="Calibri"/>
              </a:rPr>
              <a:t>tell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500" spc="-1" strike="noStrike">
                <a:solidFill>
                  <a:srgbClr val="00b050"/>
                </a:solidFill>
                <a:latin typeface="Calibri"/>
              </a:rPr>
              <a:t>repor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500" spc="-1" strike="noStrike">
                <a:solidFill>
                  <a:srgbClr val="00b050"/>
                </a:solidFill>
                <a:latin typeface="Calibri"/>
              </a:rPr>
              <a:t>recoun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Narrative Essa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narrative essay is a 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stor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narrative essay is a piece of writing that recreates an experience 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through tim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narrative essay can be based on one of your own 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experienc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either past or present, or it can be based on the 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experienc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someone els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addition to telling a story, a narrative essay also 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communicates a main idea or a lesson learne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文字方塊 3"/>
          <p:cNvSpPr/>
          <p:nvPr/>
        </p:nvSpPr>
        <p:spPr>
          <a:xfrm>
            <a:off x="3786120" y="592920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writeexpress.com/narrative-essay.htm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55)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reaking Ground to Be a 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immy Carter, 1977-198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56) Exercise 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http://www.heavener.k12.ok.us/high_school/teachers/christithompson/student%20research/Web%20Page/3b52090r.jpg"/>
          <p:cNvPicPr/>
          <p:nvPr/>
        </p:nvPicPr>
        <p:blipFill>
          <a:blip r:embed="rId2"/>
          <a:stretch/>
        </p:blipFill>
        <p:spPr>
          <a:xfrm>
            <a:off x="5572080" y="2286000"/>
            <a:ext cx="304632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arratives are generally written in the first person, that is, using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 However, third person (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h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sh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i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 can also be used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arratives rely on concrete, sensory details to convey their point. These details should create a unified, forceful effect, a dominant impress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arratives, as stories, should include these story conventions: a 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plo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including setting and characters; a 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climax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; and an 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end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字方塊 3"/>
          <p:cNvSpPr/>
          <p:nvPr/>
        </p:nvSpPr>
        <p:spPr>
          <a:xfrm>
            <a:off x="3571920" y="6072120"/>
            <a:ext cx="51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essayinfo.com/essays/narrative_essay.ph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.58 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An Embarrassing Incident.</a:t>
            </a:r>
            <a:br>
              <a:rPr sz="2600"/>
            </a:b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ackground information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o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r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was the writer’s embarrassing inciden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did the writer learn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writing S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the experience that you want to write ab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k about why the experience worth writ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nd time drafting your recollections about the details of the experi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n outline of the basic parts of your narra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rrative Top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Formative experie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an experience that shape how we see the world and what type of person we become later in lif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imes you show your personality and characteristic in the story/experienc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wing what you “learned” is importa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g. Interview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ose one of the following topics. Write a three-to-four-paragraph narrative essay (200-250 words). Remember to give a specific title for your ess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pic 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Write about an experience of learning something new. What problems did you encounter? How did you overcome them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pic 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Think about an event in your life that seemed bad but turned out to be good. What makes the event change from bad to good? What did you lear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hetorical Focu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p.5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892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Calibri"/>
              </a:rPr>
              <a:t>Introductio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to engages the reader’s interes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hook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middle sentences to provide background information (people, place, time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sis statement to prepare readers for the following action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Calibri"/>
              </a:rPr>
              <a:t>Bod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to give details about the main event/act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o describe what happened by time order, including details that bring the story to lif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Calibri"/>
              </a:rPr>
              <a:t>Conclusio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to describe the outcome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comment about what the event showed or taugh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3:52:51Z</dcterms:created>
  <dc:creator>Windows 使用者</dc:creator>
  <dc:description/>
  <dc:language>en-US</dc:language>
  <cp:lastModifiedBy>teacher</cp:lastModifiedBy>
  <dcterms:modified xsi:type="dcterms:W3CDTF">2009-04-06T07:06:53Z</dcterms:modified>
  <cp:revision>31</cp:revision>
  <dc:subject/>
  <dc:title>Unit 3 Narrative Essay</dc:title>
</cp:coreProperties>
</file>